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1AB2-C387-4E57-8950-E7F22126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FF5-868C-40DA-A226-C062FA82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611A-BE26-4C37-9322-4BC6BB12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E091-0F93-46C7-8A4C-BB45FDEA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D28D-0B9C-4CBA-A24A-4C07DBA9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DDCD-555F-4C02-974F-E4979AD5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74AE-057C-4FF9-B097-3EF46CFB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8106-47FB-4419-8121-BBEC99AE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4A0D-48F5-48FA-ADB1-CF33E872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9643-9553-4E21-A5C9-092FA76D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AC8A-0681-4C14-A826-AB4B5EB9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04E8-48EB-45D2-8173-8CEE80D4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40FC-DB52-4C5F-AEE6-939AAFDD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0DCC-078E-4D8D-ADBB-D3EA59E6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31D1-2290-4143-B74C-E9887557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2C57-7E56-4DA4-A0C6-6944D514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C105-C365-4D1B-857B-C6425486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52E37-86BF-4E7C-AC74-41915608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DE384-85A9-4EF9-A423-7097A85E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7A4E3-CA80-4ACB-AE94-2669525C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889D8-7ACD-44E0-81A7-09E25E5A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DB0FF-951C-4490-AD8B-22D725ED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DBD-F006-45AB-9F63-C1A1A1CF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EA897-36AA-4935-B596-98402D5A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EF6FF-7560-4447-BFE4-5D63903F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DCD96-747F-49DF-8CD6-BD992596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9D40A-9068-4213-A685-5605FF1D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F3A87-CA19-4B96-AFFC-F475BA1D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11955-05A9-49B9-9E49-4B51178F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4D2EF-BA85-474B-B96E-E11657CE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4C493-AB44-49B7-82CD-C313C4A7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A512D-966A-4596-BD67-133562A7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D4704-BB3B-4EEE-9545-CC7BA969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2CFF-D58C-466E-8011-AEE99EE3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FB1C5-3547-4B00-9651-8A14526D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C5952-8CFE-450D-B5C2-CF84DC31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C7147-B450-4976-8BFF-8B8D00FA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92B32-F94C-49C6-8F53-58F2A067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EB37F-FE9E-48B5-9C78-43C01331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99E6D-0D9F-43B0-B0C6-5C62625D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8A8A2-1787-4709-A050-835BD33E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15D27-D65E-4291-BC3C-2921225E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5425F-BE82-4087-A90D-4EA4A4CE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64199-EA8A-49A2-B345-CF6D6221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7A7-85F9-470E-866C-DBC94CF0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1353C-8430-4374-8A88-485D33EE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0ACFF-C5ED-4BF2-8166-F7F48CDB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37922-82FD-4124-ACEF-30BA707B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F3E3A-D144-4FD0-9BC0-1C7C2C85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D2C3F-9524-4BC9-9028-5DBA7D14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F02FF-96C2-4024-836F-F12612F0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A7F92-F880-4812-9F76-328DE812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7A667-8995-4F7C-8A3D-E6033344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AB5BC-3957-4B68-BA61-8800E5F8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DD532-0413-413E-8FC3-3DE14428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BD9D-2861-4AF0-AB3F-925EB062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27081-53A7-4C56-AB0B-25DBC6C2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3777F-78E8-4235-929A-96B09CA0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2C323-B58C-42D7-90AA-65F02834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D07F2-0F88-4D1C-AA9B-4502C40C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51527-2293-4CBE-A8D0-09F51BAF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0F988-8DE8-4ED0-AD63-BE6E28C9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B438C-9E38-4D70-AF67-E2BF5E7D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570E5-3564-4910-BB4A-A21B35F8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26EF7-6ACD-44C3-A5C9-5F27C7FE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E380A-64BE-45AB-B373-2C5D26A7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E01C-4E35-44C0-9642-646B9BCE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7A685-F43A-4C7B-947E-C86408ED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B41AB-A088-4599-8245-7C4D52A0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60432-D131-414F-8338-A3DC9438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BB8-A041-418D-9BA5-6A6001AD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D63D-995D-4F0A-AAB2-12C2C6E6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929D-EC14-4277-928B-616C410D9B3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226F-5669-433F-BE57-CF6D988FEA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50FE-0D16-469E-BFE2-BBEF6EC4927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18DA-4A3F-4154-B4E5-9F1C21B7FC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65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67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72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78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2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86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90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EC66-A9B1-46AF-8465-DF78BF40DC0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49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50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64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68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72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76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80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D560-8C2C-4DAA-B69F-98AA7ADB034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20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Тема проекта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25240" y="3713040"/>
            <a:ext cx="63961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99"/>
                </a:solidFill>
                <a:uFillTx/>
                <a:latin typeface="Verdana"/>
              </a:rPr>
              <a:t>Авторы: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4067280" y="6308640"/>
            <a:ext cx="461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2000160" y="50720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</a:rPr>
              <a:t>Руководитель:</a:t>
            </a: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роблемный вопрос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Цел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Ход исследов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Вывод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спользуемые материал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39:01Z</dcterms:created>
  <dc:creator>Helena</dc:creator>
  <dc:description/>
  <dc:language>en-US</dc:language>
  <cp:lastModifiedBy>User_02</cp:lastModifiedBy>
  <dcterms:modified xsi:type="dcterms:W3CDTF">2009-11-30T08:56:18Z</dcterms:modified>
  <cp:revision>63</cp:revision>
  <dc:subject/>
  <dc:title>Слайд 1</dc:title>
</cp:coreProperties>
</file>